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6C3-3E01-4478-B687-5348D410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66C8-F1D4-4387-A85F-DB411448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D5FF-B168-4068-A044-2F50B7AD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4A8-C4B5-4131-831B-1E33655D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F8B1-6400-4EC6-AD32-E4BEEFDD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A89E-CF24-4D03-89AF-30F1E13C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56F0-4510-407A-B099-D401F421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8B7E-4D51-423A-81C2-DE22EB1C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5A03-34E3-4C49-89AB-846C80E5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151E-6FCC-43A7-B378-7DE63C5F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D2DC-10AC-482B-ADEC-0C0ACC25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A51A-2E5C-471E-84D2-B0043CE8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078F-1972-4095-99D0-35999866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799F-8327-4E53-8AF4-9B76304F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60DD-E8DB-4144-BC78-348D716D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8B4A-CF95-4946-8C94-04CFC343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B8AE-6AB8-44C1-B7B5-3DD440CA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B1E-A40E-42EE-A6CB-C917A138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D5CD-8130-427C-9F2A-82200E9C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5583-F0E4-49FC-9F4E-FA38DF23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311-58A7-438B-99DE-839CA7B9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A5C0-A81A-43F4-B6C3-507AAB65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FD8-F97D-4496-B975-489C3473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C1D-85F4-40F3-B38B-C4E1E590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AA06-190D-4309-B36F-9D82DF348F1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6528-BEEF-4E89-BCE2-729E0AB87EC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828800" y="1523880"/>
            <a:ext cx="5410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欢迎各位家长来校交流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5214960" y="4191120"/>
            <a:ext cx="13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高一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99920" y="47228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班主任：高同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12360" y="5334120"/>
            <a:ext cx="32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联系号码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391523398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533520" y="990720"/>
          <a:ext cx="368280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36828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4800600" y="990720"/>
          <a:ext cx="3781440" cy="4495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990720"/>
                    <a:ext cx="3781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4116600" y="1447920"/>
            <a:ext cx="637920" cy="2059920"/>
            <a:chOff x="4116600" y="1447920"/>
            <a:chExt cx="637920" cy="2059920"/>
          </a:xfrm>
        </p:grpSpPr>
        <p:sp>
          <p:nvSpPr>
            <p:cNvPr id="418" name=""/>
            <p:cNvSpPr/>
            <p:nvPr/>
          </p:nvSpPr>
          <p:spPr>
            <a:xfrm>
              <a:off x="4313520" y="144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2560" y="1828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92560" y="22096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8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92560" y="2666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9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16600" y="30481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1447920" y="533520"/>
          <a:ext cx="6476760" cy="5717880"/>
        </p:xfrm>
        <a:graphic>
          <a:graphicData uri="http://schemas.openxmlformats.org/drawingml/2006/table">
            <a:tbl>
              <a:tblPr/>
              <a:tblGrid>
                <a:gridCol w="1218960"/>
                <a:gridCol w="2362320"/>
                <a:gridCol w="2895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学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教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联系方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何海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5 0616 75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童进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6 2152 01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外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吴秋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12-557339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周玉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9 6165 680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韩德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9 6166 51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钱丽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9 0616 60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政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李瑞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9 6164 40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历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袁玉霞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7 7126 69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地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高同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9 1523 398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1905120"/>
            <a:ext cx="70102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齐心协力，打造净雅环境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遵规守纪，呵护和谐校园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端正严谨，求索全面发展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1066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主题班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168280" y="533520"/>
            <a:ext cx="40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有的学生学习上很出色，如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周伟刚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高恬恬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冯继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1760" y="9698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有的工作上很负责，如临时板报小组成员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蒋朵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余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承凯玲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沈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卞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李佳玲同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876320"/>
            <a:ext cx="181674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有的同学学习工作两不误，在校生活充实而又富有成效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如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学生会副主席、临时班长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李佳琳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同学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临时劳动委员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王阳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同学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学生会文娱部成员、临时文娱委员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张一岑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同学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82960" y="3255840"/>
            <a:ext cx="352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有些同学自律性强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曹庭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卞晓雯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薛丹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胡逸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居林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赵胜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35720" y="417024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有些同学能严格要求自己并有其明确的奋斗目标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陈彬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顾沈霞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徐丽婷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36920" y="50292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有些同学课堂效率高，方法好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陆樱少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13560" y="5465880"/>
            <a:ext cx="43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有些同学为人稳重，能虚心接受老师的教导并师生相处融洽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江旻明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承凯玲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鲍寻梦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赵立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周霞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549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可能各位家长都知道，从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2005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年秋开始，江苏省进行了高考制度改革，由以前的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3+2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变为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08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年的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门必修加两门选修，其中在高二下学期还有一个小高考，即江苏省学业水平测试。考学生不选的四门。而且在这两门选修中，其中文科必选历史，理科必选物理。只有在通过了这个小高考之后，学生才有资格参加高考。如果学生能在四门会考中考到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的话，再加上两门选修也考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的话，就可以在高考中加十分投档。因此，在新的形势下，学生必须全面平衡的发展。因此，请在座的各位家长督促自己的子女平衡发展，不要偏科。尤其是现在高一打基础的时候，现在门门优秀，到时你选科的选择面才会广，才更能充分发挥你子女的特长，扬长避短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728640" y="1066680"/>
            <a:ext cx="2089080" cy="4566600"/>
            <a:chOff x="728640" y="1066680"/>
            <a:chExt cx="2089080" cy="4566600"/>
          </a:xfrm>
        </p:grpSpPr>
        <p:grpSp>
          <p:nvGrpSpPr>
            <p:cNvPr id="102" name=""/>
            <p:cNvGrpSpPr/>
            <p:nvPr/>
          </p:nvGrpSpPr>
          <p:grpSpPr>
            <a:xfrm>
              <a:off x="728640" y="1066680"/>
              <a:ext cx="1208520" cy="941400"/>
              <a:chOff x="728640" y="1066680"/>
              <a:chExt cx="1208520" cy="941400"/>
            </a:xfrm>
          </p:grpSpPr>
          <p:sp>
            <p:nvSpPr>
              <p:cNvPr id="103" name=""/>
              <p:cNvSpPr/>
              <p:nvPr/>
            </p:nvSpPr>
            <p:spPr>
              <a:xfrm>
                <a:off x="752040" y="1078200"/>
                <a:ext cx="1160280" cy="9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姓名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28640" y="1066680"/>
                <a:ext cx="1208520" cy="941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1937880" y="1066680"/>
              <a:ext cx="879840" cy="941400"/>
              <a:chOff x="1937880" y="1066680"/>
              <a:chExt cx="879840" cy="941400"/>
            </a:xfrm>
          </p:grpSpPr>
          <p:sp>
            <p:nvSpPr>
              <p:cNvPr id="106" name=""/>
              <p:cNvSpPr/>
              <p:nvPr/>
            </p:nvSpPr>
            <p:spPr>
              <a:xfrm>
                <a:off x="1961280" y="1078200"/>
                <a:ext cx="831600" cy="9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语文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937880" y="1066680"/>
                <a:ext cx="879840" cy="941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728640" y="2020680"/>
              <a:ext cx="1208520" cy="941400"/>
              <a:chOff x="728640" y="2020680"/>
              <a:chExt cx="1208520" cy="941400"/>
            </a:xfrm>
          </p:grpSpPr>
          <p:sp>
            <p:nvSpPr>
              <p:cNvPr id="109" name=""/>
              <p:cNvSpPr/>
              <p:nvPr/>
            </p:nvSpPr>
            <p:spPr>
              <a:xfrm>
                <a:off x="752040" y="2032200"/>
                <a:ext cx="1160280" cy="9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冯继澄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8640" y="2020680"/>
                <a:ext cx="1208520" cy="941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1937880" y="2020680"/>
              <a:ext cx="879840" cy="941400"/>
              <a:chOff x="1937880" y="2020680"/>
              <a:chExt cx="879840" cy="941400"/>
            </a:xfrm>
          </p:grpSpPr>
          <p:sp>
            <p:nvSpPr>
              <p:cNvPr id="112" name=""/>
              <p:cNvSpPr/>
              <p:nvPr/>
            </p:nvSpPr>
            <p:spPr>
              <a:xfrm>
                <a:off x="1961280" y="2032200"/>
                <a:ext cx="831600" cy="9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97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37880" y="2020680"/>
                <a:ext cx="879840" cy="941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728640" y="2974320"/>
              <a:ext cx="1208520" cy="750600"/>
              <a:chOff x="728640" y="2974320"/>
              <a:chExt cx="1208520" cy="750600"/>
            </a:xfrm>
          </p:grpSpPr>
          <p:sp>
            <p:nvSpPr>
              <p:cNvPr id="115" name=""/>
              <p:cNvSpPr/>
              <p:nvPr/>
            </p:nvSpPr>
            <p:spPr>
              <a:xfrm>
                <a:off x="752040" y="2986200"/>
                <a:ext cx="1160280" cy="73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王阳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8640" y="2974320"/>
                <a:ext cx="1208520" cy="75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1937880" y="2974320"/>
              <a:ext cx="879840" cy="750600"/>
              <a:chOff x="1937880" y="2974320"/>
              <a:chExt cx="879840" cy="750600"/>
            </a:xfrm>
          </p:grpSpPr>
          <p:sp>
            <p:nvSpPr>
              <p:cNvPr id="118" name=""/>
              <p:cNvSpPr/>
              <p:nvPr/>
            </p:nvSpPr>
            <p:spPr>
              <a:xfrm>
                <a:off x="1961280" y="2986200"/>
                <a:ext cx="831600" cy="73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8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37880" y="2974320"/>
                <a:ext cx="879840" cy="75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728640" y="3737880"/>
              <a:ext cx="1208520" cy="941400"/>
              <a:chOff x="728640" y="3737880"/>
              <a:chExt cx="1208520" cy="941400"/>
            </a:xfrm>
          </p:grpSpPr>
          <p:sp>
            <p:nvSpPr>
              <p:cNvPr id="121" name=""/>
              <p:cNvSpPr/>
              <p:nvPr/>
            </p:nvSpPr>
            <p:spPr>
              <a:xfrm>
                <a:off x="752040" y="3749400"/>
                <a:ext cx="1160280" cy="9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吴明君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28640" y="3737880"/>
                <a:ext cx="1208520" cy="941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1937880" y="3737880"/>
              <a:ext cx="879840" cy="941400"/>
              <a:chOff x="1937880" y="3737880"/>
              <a:chExt cx="879840" cy="941400"/>
            </a:xfrm>
          </p:grpSpPr>
          <p:sp>
            <p:nvSpPr>
              <p:cNvPr id="124" name=""/>
              <p:cNvSpPr/>
              <p:nvPr/>
            </p:nvSpPr>
            <p:spPr>
              <a:xfrm>
                <a:off x="1961280" y="3749400"/>
                <a:ext cx="831600" cy="9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8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37880" y="3737880"/>
                <a:ext cx="879840" cy="941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728640" y="4691520"/>
              <a:ext cx="1208520" cy="941760"/>
              <a:chOff x="728640" y="4691520"/>
              <a:chExt cx="1208520" cy="941760"/>
            </a:xfrm>
          </p:grpSpPr>
          <p:sp>
            <p:nvSpPr>
              <p:cNvPr id="127" name=""/>
              <p:cNvSpPr/>
              <p:nvPr/>
            </p:nvSpPr>
            <p:spPr>
              <a:xfrm>
                <a:off x="752040" y="4703400"/>
                <a:ext cx="1160280" cy="92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平均分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8640" y="4691520"/>
                <a:ext cx="1208520" cy="94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937880" y="4691520"/>
              <a:ext cx="879840" cy="941760"/>
              <a:chOff x="1937880" y="4691520"/>
              <a:chExt cx="879840" cy="941760"/>
            </a:xfrm>
          </p:grpSpPr>
          <p:sp>
            <p:nvSpPr>
              <p:cNvPr id="130" name=""/>
              <p:cNvSpPr/>
              <p:nvPr/>
            </p:nvSpPr>
            <p:spPr>
              <a:xfrm>
                <a:off x="1961280" y="4703400"/>
                <a:ext cx="831600" cy="92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71.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37880" y="4691520"/>
                <a:ext cx="879840" cy="94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" name=""/>
          <p:cNvGrpSpPr/>
          <p:nvPr/>
        </p:nvGrpSpPr>
        <p:grpSpPr>
          <a:xfrm>
            <a:off x="2917800" y="1066680"/>
            <a:ext cx="2262240" cy="4577760"/>
            <a:chOff x="2917800" y="1066680"/>
            <a:chExt cx="2262240" cy="4577760"/>
          </a:xfrm>
        </p:grpSpPr>
        <p:grpSp>
          <p:nvGrpSpPr>
            <p:cNvPr id="133" name=""/>
            <p:cNvGrpSpPr/>
            <p:nvPr/>
          </p:nvGrpSpPr>
          <p:grpSpPr>
            <a:xfrm>
              <a:off x="2917800" y="1066680"/>
              <a:ext cx="1310040" cy="943560"/>
              <a:chOff x="2917800" y="1066680"/>
              <a:chExt cx="1310040" cy="943560"/>
            </a:xfrm>
          </p:grpSpPr>
          <p:sp>
            <p:nvSpPr>
              <p:cNvPr id="134" name=""/>
              <p:cNvSpPr/>
              <p:nvPr/>
            </p:nvSpPr>
            <p:spPr>
              <a:xfrm>
                <a:off x="2943720" y="1078200"/>
                <a:ext cx="1257840" cy="93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姓名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17800" y="1066680"/>
                <a:ext cx="1310040" cy="94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228560" y="1066680"/>
              <a:ext cx="951480" cy="943560"/>
              <a:chOff x="4228560" y="1066680"/>
              <a:chExt cx="951480" cy="943560"/>
            </a:xfrm>
          </p:grpSpPr>
          <p:sp>
            <p:nvSpPr>
              <p:cNvPr id="137" name=""/>
              <p:cNvSpPr/>
              <p:nvPr/>
            </p:nvSpPr>
            <p:spPr>
              <a:xfrm>
                <a:off x="4255560" y="1078200"/>
                <a:ext cx="898200" cy="93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数学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228560" y="1066680"/>
                <a:ext cx="951480" cy="94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2917800" y="2022840"/>
              <a:ext cx="1310040" cy="943560"/>
              <a:chOff x="2917800" y="2022840"/>
              <a:chExt cx="1310040" cy="943560"/>
            </a:xfrm>
          </p:grpSpPr>
          <p:sp>
            <p:nvSpPr>
              <p:cNvPr id="140" name=""/>
              <p:cNvSpPr/>
              <p:nvPr/>
            </p:nvSpPr>
            <p:spPr>
              <a:xfrm>
                <a:off x="2943720" y="2034360"/>
                <a:ext cx="1257840" cy="93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周伟刚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917800" y="2022840"/>
                <a:ext cx="1310040" cy="94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228560" y="2022840"/>
              <a:ext cx="951480" cy="943560"/>
              <a:chOff x="4228560" y="2022840"/>
              <a:chExt cx="951480" cy="943560"/>
            </a:xfrm>
          </p:grpSpPr>
          <p:sp>
            <p:nvSpPr>
              <p:cNvPr id="143" name=""/>
              <p:cNvSpPr/>
              <p:nvPr/>
            </p:nvSpPr>
            <p:spPr>
              <a:xfrm>
                <a:off x="4255560" y="2034360"/>
                <a:ext cx="898200" cy="93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11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228560" y="2022840"/>
                <a:ext cx="951480" cy="94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917800" y="2979000"/>
              <a:ext cx="1310040" cy="752760"/>
              <a:chOff x="2917800" y="2979000"/>
              <a:chExt cx="1310040" cy="752760"/>
            </a:xfrm>
          </p:grpSpPr>
          <p:sp>
            <p:nvSpPr>
              <p:cNvPr id="146" name=""/>
              <p:cNvSpPr/>
              <p:nvPr/>
            </p:nvSpPr>
            <p:spPr>
              <a:xfrm>
                <a:off x="2943720" y="2990880"/>
                <a:ext cx="1257840" cy="74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胡逸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917800" y="2979000"/>
                <a:ext cx="1310040" cy="752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228560" y="2979000"/>
              <a:ext cx="951480" cy="752760"/>
              <a:chOff x="4228560" y="2979000"/>
              <a:chExt cx="951480" cy="752760"/>
            </a:xfrm>
          </p:grpSpPr>
          <p:sp>
            <p:nvSpPr>
              <p:cNvPr id="149" name=""/>
              <p:cNvSpPr/>
              <p:nvPr/>
            </p:nvSpPr>
            <p:spPr>
              <a:xfrm>
                <a:off x="4255560" y="2990880"/>
                <a:ext cx="898200" cy="74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98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228560" y="2979000"/>
                <a:ext cx="951480" cy="752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917800" y="3744360"/>
              <a:ext cx="1310040" cy="943560"/>
              <a:chOff x="2917800" y="3744360"/>
              <a:chExt cx="1310040" cy="943560"/>
            </a:xfrm>
          </p:grpSpPr>
          <p:sp>
            <p:nvSpPr>
              <p:cNvPr id="152" name=""/>
              <p:cNvSpPr/>
              <p:nvPr/>
            </p:nvSpPr>
            <p:spPr>
              <a:xfrm>
                <a:off x="2943720" y="3755880"/>
                <a:ext cx="1257840" cy="93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朱秋云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917800" y="3744360"/>
                <a:ext cx="1310040" cy="94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228560" y="3744360"/>
              <a:ext cx="951480" cy="943560"/>
              <a:chOff x="4228560" y="3744360"/>
              <a:chExt cx="951480" cy="943560"/>
            </a:xfrm>
          </p:grpSpPr>
          <p:sp>
            <p:nvSpPr>
              <p:cNvPr id="155" name=""/>
              <p:cNvSpPr/>
              <p:nvPr/>
            </p:nvSpPr>
            <p:spPr>
              <a:xfrm>
                <a:off x="4255560" y="3755880"/>
                <a:ext cx="898200" cy="93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98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28560" y="3744360"/>
                <a:ext cx="951480" cy="94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2917800" y="4700160"/>
              <a:ext cx="1310040" cy="944280"/>
              <a:chOff x="2917800" y="4700160"/>
              <a:chExt cx="1310040" cy="944280"/>
            </a:xfrm>
          </p:grpSpPr>
          <p:sp>
            <p:nvSpPr>
              <p:cNvPr id="158" name=""/>
              <p:cNvSpPr/>
              <p:nvPr/>
            </p:nvSpPr>
            <p:spPr>
              <a:xfrm>
                <a:off x="2943720" y="4712040"/>
                <a:ext cx="1257840" cy="93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平均分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917800" y="4700160"/>
                <a:ext cx="1310040" cy="94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228560" y="4700160"/>
              <a:ext cx="951480" cy="944280"/>
              <a:chOff x="4228560" y="4700160"/>
              <a:chExt cx="951480" cy="944280"/>
            </a:xfrm>
          </p:grpSpPr>
          <p:sp>
            <p:nvSpPr>
              <p:cNvPr id="161" name=""/>
              <p:cNvSpPr/>
              <p:nvPr/>
            </p:nvSpPr>
            <p:spPr>
              <a:xfrm>
                <a:off x="4255560" y="4712040"/>
                <a:ext cx="898200" cy="93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75.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228560" y="4700160"/>
                <a:ext cx="951480" cy="94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5486400" y="681480"/>
            <a:ext cx="2344680" cy="5378040"/>
            <a:chOff x="5486400" y="681480"/>
            <a:chExt cx="2344680" cy="5378040"/>
          </a:xfrm>
        </p:grpSpPr>
        <p:grpSp>
          <p:nvGrpSpPr>
            <p:cNvPr id="164" name=""/>
            <p:cNvGrpSpPr/>
            <p:nvPr/>
          </p:nvGrpSpPr>
          <p:grpSpPr>
            <a:xfrm>
              <a:off x="5486400" y="699480"/>
              <a:ext cx="1356120" cy="825480"/>
              <a:chOff x="5486400" y="699480"/>
              <a:chExt cx="1356120" cy="825480"/>
            </a:xfrm>
          </p:grpSpPr>
          <p:sp>
            <p:nvSpPr>
              <p:cNvPr id="165" name=""/>
              <p:cNvSpPr/>
              <p:nvPr/>
            </p:nvSpPr>
            <p:spPr>
              <a:xfrm>
                <a:off x="5513040" y="699480"/>
                <a:ext cx="1301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姓名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486400" y="707400"/>
                <a:ext cx="1356120" cy="799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843240" y="681480"/>
              <a:ext cx="987840" cy="825480"/>
              <a:chOff x="6843240" y="681480"/>
              <a:chExt cx="987840" cy="825480"/>
            </a:xfrm>
          </p:grpSpPr>
          <p:sp>
            <p:nvSpPr>
              <p:cNvPr id="168" name=""/>
              <p:cNvSpPr/>
              <p:nvPr/>
            </p:nvSpPr>
            <p:spPr>
              <a:xfrm>
                <a:off x="6869880" y="681480"/>
                <a:ext cx="933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英语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843240" y="707400"/>
                <a:ext cx="987840" cy="799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86400" y="1509480"/>
              <a:ext cx="1356120" cy="825480"/>
              <a:chOff x="5486400" y="1509480"/>
              <a:chExt cx="1356120" cy="825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513040" y="1509480"/>
                <a:ext cx="1301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周伟刚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86400" y="1517400"/>
                <a:ext cx="1356120" cy="799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6843240" y="1491480"/>
              <a:ext cx="987840" cy="825480"/>
              <a:chOff x="6843240" y="1491480"/>
              <a:chExt cx="987840" cy="825480"/>
            </a:xfrm>
          </p:grpSpPr>
          <p:sp>
            <p:nvSpPr>
              <p:cNvPr id="174" name=""/>
              <p:cNvSpPr/>
              <p:nvPr/>
            </p:nvSpPr>
            <p:spPr>
              <a:xfrm>
                <a:off x="6869880" y="1491480"/>
                <a:ext cx="933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107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843240" y="1517400"/>
                <a:ext cx="987840" cy="799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486400" y="2318400"/>
              <a:ext cx="1356120" cy="825480"/>
              <a:chOff x="5486400" y="2318400"/>
              <a:chExt cx="1356120" cy="825480"/>
            </a:xfrm>
          </p:grpSpPr>
          <p:sp>
            <p:nvSpPr>
              <p:cNvPr id="177" name=""/>
              <p:cNvSpPr/>
              <p:nvPr/>
            </p:nvSpPr>
            <p:spPr>
              <a:xfrm>
                <a:off x="5513040" y="2318400"/>
                <a:ext cx="1301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李佳琳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86400" y="2327040"/>
                <a:ext cx="1356120" cy="799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6843240" y="2301480"/>
              <a:ext cx="987840" cy="825480"/>
              <a:chOff x="6843240" y="2301480"/>
              <a:chExt cx="987840" cy="825480"/>
            </a:xfrm>
          </p:grpSpPr>
          <p:sp>
            <p:nvSpPr>
              <p:cNvPr id="180" name=""/>
              <p:cNvSpPr/>
              <p:nvPr/>
            </p:nvSpPr>
            <p:spPr>
              <a:xfrm>
                <a:off x="6869880" y="2301480"/>
                <a:ext cx="933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843240" y="2327040"/>
                <a:ext cx="987840" cy="799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486400" y="3128400"/>
              <a:ext cx="1356120" cy="825480"/>
              <a:chOff x="5486400" y="3128400"/>
              <a:chExt cx="1356120" cy="825480"/>
            </a:xfrm>
          </p:grpSpPr>
          <p:sp>
            <p:nvSpPr>
              <p:cNvPr id="183" name=""/>
              <p:cNvSpPr/>
              <p:nvPr/>
            </p:nvSpPr>
            <p:spPr>
              <a:xfrm>
                <a:off x="5513040" y="3128400"/>
                <a:ext cx="1301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倪东旭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86400" y="3137040"/>
                <a:ext cx="1356120" cy="799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843240" y="3111120"/>
              <a:ext cx="987840" cy="825480"/>
              <a:chOff x="6843240" y="3111120"/>
              <a:chExt cx="987840" cy="825480"/>
            </a:xfrm>
          </p:grpSpPr>
          <p:sp>
            <p:nvSpPr>
              <p:cNvPr id="186" name=""/>
              <p:cNvSpPr/>
              <p:nvPr/>
            </p:nvSpPr>
            <p:spPr>
              <a:xfrm>
                <a:off x="6869880" y="3111120"/>
                <a:ext cx="933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9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843240" y="3137040"/>
                <a:ext cx="987840" cy="799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486400" y="3857400"/>
              <a:ext cx="1356120" cy="825480"/>
              <a:chOff x="5486400" y="3857400"/>
              <a:chExt cx="1356120" cy="825480"/>
            </a:xfrm>
          </p:grpSpPr>
          <p:sp>
            <p:nvSpPr>
              <p:cNvPr id="189" name=""/>
              <p:cNvSpPr/>
              <p:nvPr/>
            </p:nvSpPr>
            <p:spPr>
              <a:xfrm>
                <a:off x="5513040" y="3857400"/>
                <a:ext cx="1301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蒋朵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486400" y="3947040"/>
                <a:ext cx="1356120" cy="637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843240" y="3759120"/>
              <a:ext cx="987840" cy="825480"/>
              <a:chOff x="6843240" y="3759120"/>
              <a:chExt cx="987840" cy="825480"/>
            </a:xfrm>
          </p:grpSpPr>
          <p:sp>
            <p:nvSpPr>
              <p:cNvPr id="192" name=""/>
              <p:cNvSpPr/>
              <p:nvPr/>
            </p:nvSpPr>
            <p:spPr>
              <a:xfrm>
                <a:off x="6869880" y="3759120"/>
                <a:ext cx="933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9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43240" y="3947040"/>
                <a:ext cx="987840" cy="637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486400" y="4507200"/>
              <a:ext cx="1356120" cy="825480"/>
              <a:chOff x="5486400" y="4507200"/>
              <a:chExt cx="1356120" cy="825480"/>
            </a:xfrm>
          </p:grpSpPr>
          <p:sp>
            <p:nvSpPr>
              <p:cNvPr id="195" name=""/>
              <p:cNvSpPr/>
              <p:nvPr/>
            </p:nvSpPr>
            <p:spPr>
              <a:xfrm>
                <a:off x="5513040" y="4507200"/>
                <a:ext cx="1301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赵立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86400" y="4595040"/>
                <a:ext cx="1356120" cy="637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6843240" y="4407120"/>
              <a:ext cx="987840" cy="825480"/>
              <a:chOff x="6843240" y="4407120"/>
              <a:chExt cx="987840" cy="825480"/>
            </a:xfrm>
          </p:grpSpPr>
          <p:sp>
            <p:nvSpPr>
              <p:cNvPr id="198" name=""/>
              <p:cNvSpPr/>
              <p:nvPr/>
            </p:nvSpPr>
            <p:spPr>
              <a:xfrm>
                <a:off x="6869880" y="4407120"/>
                <a:ext cx="933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9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843240" y="4595040"/>
                <a:ext cx="987840" cy="637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486400" y="5234040"/>
              <a:ext cx="1356120" cy="825480"/>
              <a:chOff x="5486400" y="5234040"/>
              <a:chExt cx="1356120" cy="825480"/>
            </a:xfrm>
          </p:grpSpPr>
          <p:sp>
            <p:nvSpPr>
              <p:cNvPr id="201" name=""/>
              <p:cNvSpPr/>
              <p:nvPr/>
            </p:nvSpPr>
            <p:spPr>
              <a:xfrm>
                <a:off x="5513040" y="5234040"/>
                <a:ext cx="1301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平均分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486400" y="5242680"/>
                <a:ext cx="1356120" cy="799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843240" y="5217120"/>
              <a:ext cx="987840" cy="825480"/>
              <a:chOff x="6843240" y="5217120"/>
              <a:chExt cx="987840" cy="825480"/>
            </a:xfrm>
          </p:grpSpPr>
          <p:sp>
            <p:nvSpPr>
              <p:cNvPr id="204" name=""/>
              <p:cNvSpPr/>
              <p:nvPr/>
            </p:nvSpPr>
            <p:spPr>
              <a:xfrm>
                <a:off x="6869880" y="5217120"/>
                <a:ext cx="933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82.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43240" y="5242680"/>
                <a:ext cx="987840" cy="799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-35672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09480" y="914400"/>
            <a:ext cx="2208240" cy="4647600"/>
            <a:chOff x="609480" y="914400"/>
            <a:chExt cx="2208240" cy="4647600"/>
          </a:xfrm>
        </p:grpSpPr>
        <p:grpSp>
          <p:nvGrpSpPr>
            <p:cNvPr id="208" name=""/>
            <p:cNvGrpSpPr/>
            <p:nvPr/>
          </p:nvGrpSpPr>
          <p:grpSpPr>
            <a:xfrm>
              <a:off x="609480" y="914400"/>
              <a:ext cx="1344600" cy="821160"/>
              <a:chOff x="609480" y="914400"/>
              <a:chExt cx="1344600" cy="821160"/>
            </a:xfrm>
          </p:grpSpPr>
          <p:sp>
            <p:nvSpPr>
              <p:cNvPr id="209" name=""/>
              <p:cNvSpPr/>
              <p:nvPr/>
            </p:nvSpPr>
            <p:spPr>
              <a:xfrm>
                <a:off x="634320" y="924840"/>
                <a:ext cx="1294560" cy="81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姓名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9480" y="914400"/>
                <a:ext cx="1344600" cy="821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954800" y="914400"/>
              <a:ext cx="862920" cy="821160"/>
              <a:chOff x="1954800" y="914400"/>
              <a:chExt cx="862920" cy="821160"/>
            </a:xfrm>
          </p:grpSpPr>
          <p:sp>
            <p:nvSpPr>
              <p:cNvPr id="212" name=""/>
              <p:cNvSpPr/>
              <p:nvPr/>
            </p:nvSpPr>
            <p:spPr>
              <a:xfrm>
                <a:off x="1980360" y="924840"/>
                <a:ext cx="811080" cy="81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物理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954800" y="914400"/>
                <a:ext cx="862920" cy="821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09480" y="1746360"/>
              <a:ext cx="1344600" cy="654480"/>
              <a:chOff x="609480" y="1746360"/>
              <a:chExt cx="1344600" cy="6544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4320" y="1756440"/>
                <a:ext cx="1294560" cy="64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赵立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9480" y="1746360"/>
                <a:ext cx="1344600" cy="654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954800" y="1746360"/>
              <a:ext cx="862920" cy="654480"/>
              <a:chOff x="1954800" y="1746360"/>
              <a:chExt cx="862920" cy="654480"/>
            </a:xfrm>
          </p:grpSpPr>
          <p:sp>
            <p:nvSpPr>
              <p:cNvPr id="218" name=""/>
              <p:cNvSpPr/>
              <p:nvPr/>
            </p:nvSpPr>
            <p:spPr>
              <a:xfrm>
                <a:off x="1980360" y="1756440"/>
                <a:ext cx="811080" cy="64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88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954800" y="1746360"/>
                <a:ext cx="862920" cy="654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609480" y="2411640"/>
              <a:ext cx="1344600" cy="654480"/>
              <a:chOff x="609480" y="2411640"/>
              <a:chExt cx="1344600" cy="654480"/>
            </a:xfrm>
          </p:grpSpPr>
          <p:sp>
            <p:nvSpPr>
              <p:cNvPr id="221" name=""/>
              <p:cNvSpPr/>
              <p:nvPr/>
            </p:nvSpPr>
            <p:spPr>
              <a:xfrm>
                <a:off x="634320" y="2422080"/>
                <a:ext cx="1294560" cy="64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王阳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9480" y="2411640"/>
                <a:ext cx="1344600" cy="654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1954800" y="2411640"/>
              <a:ext cx="862920" cy="654480"/>
              <a:chOff x="1954800" y="2411640"/>
              <a:chExt cx="862920" cy="654480"/>
            </a:xfrm>
          </p:grpSpPr>
          <p:sp>
            <p:nvSpPr>
              <p:cNvPr id="224" name=""/>
              <p:cNvSpPr/>
              <p:nvPr/>
            </p:nvSpPr>
            <p:spPr>
              <a:xfrm>
                <a:off x="1980360" y="2422080"/>
                <a:ext cx="811080" cy="64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87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954800" y="2411640"/>
                <a:ext cx="862920" cy="654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609480" y="3077280"/>
              <a:ext cx="1344600" cy="820800"/>
              <a:chOff x="609480" y="3077280"/>
              <a:chExt cx="1344600" cy="820800"/>
            </a:xfrm>
          </p:grpSpPr>
          <p:sp>
            <p:nvSpPr>
              <p:cNvPr id="227" name=""/>
              <p:cNvSpPr/>
              <p:nvPr/>
            </p:nvSpPr>
            <p:spPr>
              <a:xfrm>
                <a:off x="634320" y="3087360"/>
                <a:ext cx="1294560" cy="81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周伟刚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09480" y="3077280"/>
                <a:ext cx="1344600" cy="820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954800" y="3077280"/>
              <a:ext cx="862920" cy="820800"/>
              <a:chOff x="1954800" y="3077280"/>
              <a:chExt cx="862920" cy="820800"/>
            </a:xfrm>
          </p:grpSpPr>
          <p:sp>
            <p:nvSpPr>
              <p:cNvPr id="230" name=""/>
              <p:cNvSpPr/>
              <p:nvPr/>
            </p:nvSpPr>
            <p:spPr>
              <a:xfrm>
                <a:off x="1980360" y="3087360"/>
                <a:ext cx="811080" cy="81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8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54800" y="3077280"/>
                <a:ext cx="862920" cy="820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609480" y="3908880"/>
              <a:ext cx="1344600" cy="821160"/>
              <a:chOff x="609480" y="3908880"/>
              <a:chExt cx="1344600" cy="821160"/>
            </a:xfrm>
          </p:grpSpPr>
          <p:sp>
            <p:nvSpPr>
              <p:cNvPr id="233" name=""/>
              <p:cNvSpPr/>
              <p:nvPr/>
            </p:nvSpPr>
            <p:spPr>
              <a:xfrm>
                <a:off x="634320" y="3919320"/>
                <a:ext cx="1294560" cy="81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高恬恬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9480" y="3908880"/>
                <a:ext cx="1344600" cy="821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954800" y="3908880"/>
              <a:ext cx="862920" cy="821160"/>
              <a:chOff x="1954800" y="3908880"/>
              <a:chExt cx="862920" cy="821160"/>
            </a:xfrm>
          </p:grpSpPr>
          <p:sp>
            <p:nvSpPr>
              <p:cNvPr id="236" name=""/>
              <p:cNvSpPr/>
              <p:nvPr/>
            </p:nvSpPr>
            <p:spPr>
              <a:xfrm>
                <a:off x="1980360" y="3919320"/>
                <a:ext cx="811080" cy="81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8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54800" y="3908880"/>
                <a:ext cx="862920" cy="821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09480" y="4741200"/>
              <a:ext cx="1344600" cy="820800"/>
              <a:chOff x="609480" y="4741200"/>
              <a:chExt cx="1344600" cy="820800"/>
            </a:xfrm>
          </p:grpSpPr>
          <p:sp>
            <p:nvSpPr>
              <p:cNvPr id="239" name=""/>
              <p:cNvSpPr/>
              <p:nvPr/>
            </p:nvSpPr>
            <p:spPr>
              <a:xfrm>
                <a:off x="634320" y="4751280"/>
                <a:ext cx="1294560" cy="81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平均分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09480" y="4741200"/>
                <a:ext cx="1344600" cy="820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1954800" y="4741200"/>
              <a:ext cx="862920" cy="820800"/>
              <a:chOff x="1954800" y="4741200"/>
              <a:chExt cx="862920" cy="820800"/>
            </a:xfrm>
          </p:grpSpPr>
          <p:sp>
            <p:nvSpPr>
              <p:cNvPr id="242" name=""/>
              <p:cNvSpPr/>
              <p:nvPr/>
            </p:nvSpPr>
            <p:spPr>
              <a:xfrm>
                <a:off x="1980360" y="4751280"/>
                <a:ext cx="811080" cy="81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7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54800" y="4741200"/>
                <a:ext cx="862920" cy="820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" name=""/>
          <p:cNvGrpSpPr/>
          <p:nvPr/>
        </p:nvGrpSpPr>
        <p:grpSpPr>
          <a:xfrm>
            <a:off x="2971800" y="914400"/>
            <a:ext cx="2208240" cy="4571280"/>
            <a:chOff x="2971800" y="914400"/>
            <a:chExt cx="2208240" cy="4571280"/>
          </a:xfrm>
        </p:grpSpPr>
        <p:grpSp>
          <p:nvGrpSpPr>
            <p:cNvPr id="245" name=""/>
            <p:cNvGrpSpPr/>
            <p:nvPr/>
          </p:nvGrpSpPr>
          <p:grpSpPr>
            <a:xfrm>
              <a:off x="2971800" y="914400"/>
              <a:ext cx="1344600" cy="779400"/>
              <a:chOff x="2971800" y="914400"/>
              <a:chExt cx="1344600" cy="779400"/>
            </a:xfrm>
          </p:grpSpPr>
          <p:sp>
            <p:nvSpPr>
              <p:cNvPr id="246" name=""/>
              <p:cNvSpPr/>
              <p:nvPr/>
            </p:nvSpPr>
            <p:spPr>
              <a:xfrm>
                <a:off x="2996640" y="923760"/>
                <a:ext cx="1294560" cy="77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姓名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971800" y="914400"/>
                <a:ext cx="1344600" cy="77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4317120" y="914400"/>
              <a:ext cx="862920" cy="779400"/>
              <a:chOff x="4317120" y="914400"/>
              <a:chExt cx="862920" cy="779400"/>
            </a:xfrm>
          </p:grpSpPr>
          <p:sp>
            <p:nvSpPr>
              <p:cNvPr id="249" name=""/>
              <p:cNvSpPr/>
              <p:nvPr/>
            </p:nvSpPr>
            <p:spPr>
              <a:xfrm>
                <a:off x="4342680" y="923760"/>
                <a:ext cx="811080" cy="77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化学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7120" y="914400"/>
                <a:ext cx="862920" cy="77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971800" y="1703880"/>
              <a:ext cx="1344600" cy="779400"/>
              <a:chOff x="2971800" y="1703880"/>
              <a:chExt cx="1344600" cy="779400"/>
            </a:xfrm>
          </p:grpSpPr>
          <p:sp>
            <p:nvSpPr>
              <p:cNvPr id="252" name=""/>
              <p:cNvSpPr/>
              <p:nvPr/>
            </p:nvSpPr>
            <p:spPr>
              <a:xfrm>
                <a:off x="2996640" y="1713600"/>
                <a:ext cx="1294560" cy="76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吴明君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71800" y="1703880"/>
                <a:ext cx="1344600" cy="77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4317120" y="1703880"/>
              <a:ext cx="862920" cy="779400"/>
              <a:chOff x="4317120" y="1703880"/>
              <a:chExt cx="862920" cy="779400"/>
            </a:xfrm>
          </p:grpSpPr>
          <p:sp>
            <p:nvSpPr>
              <p:cNvPr id="255" name=""/>
              <p:cNvSpPr/>
              <p:nvPr/>
            </p:nvSpPr>
            <p:spPr>
              <a:xfrm>
                <a:off x="4342680" y="1713600"/>
                <a:ext cx="811080" cy="76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98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317120" y="1703880"/>
                <a:ext cx="862920" cy="77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971800" y="2494080"/>
              <a:ext cx="1344600" cy="621720"/>
              <a:chOff x="2971800" y="2494080"/>
              <a:chExt cx="1344600" cy="621720"/>
            </a:xfrm>
          </p:grpSpPr>
          <p:sp>
            <p:nvSpPr>
              <p:cNvPr id="258" name=""/>
              <p:cNvSpPr/>
              <p:nvPr/>
            </p:nvSpPr>
            <p:spPr>
              <a:xfrm>
                <a:off x="2996640" y="2503440"/>
                <a:ext cx="129456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刘艳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971800" y="2494080"/>
                <a:ext cx="1344600" cy="621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4317120" y="2494080"/>
              <a:ext cx="862920" cy="621720"/>
              <a:chOff x="4317120" y="2494080"/>
              <a:chExt cx="862920" cy="621720"/>
            </a:xfrm>
          </p:grpSpPr>
          <p:sp>
            <p:nvSpPr>
              <p:cNvPr id="261" name=""/>
              <p:cNvSpPr/>
              <p:nvPr/>
            </p:nvSpPr>
            <p:spPr>
              <a:xfrm>
                <a:off x="4342680" y="2503440"/>
                <a:ext cx="81108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97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317120" y="2494080"/>
                <a:ext cx="862920" cy="621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2971800" y="3125880"/>
              <a:ext cx="1344600" cy="779400"/>
              <a:chOff x="2971800" y="3125880"/>
              <a:chExt cx="1344600" cy="779400"/>
            </a:xfrm>
          </p:grpSpPr>
          <p:sp>
            <p:nvSpPr>
              <p:cNvPr id="264" name=""/>
              <p:cNvSpPr/>
              <p:nvPr/>
            </p:nvSpPr>
            <p:spPr>
              <a:xfrm>
                <a:off x="2996640" y="3135600"/>
                <a:ext cx="1294560" cy="76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周伟刚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971800" y="3125880"/>
                <a:ext cx="1344600" cy="77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317120" y="3125880"/>
              <a:ext cx="862920" cy="779400"/>
              <a:chOff x="4317120" y="3125880"/>
              <a:chExt cx="862920" cy="779400"/>
            </a:xfrm>
          </p:grpSpPr>
          <p:sp>
            <p:nvSpPr>
              <p:cNvPr id="267" name=""/>
              <p:cNvSpPr/>
              <p:nvPr/>
            </p:nvSpPr>
            <p:spPr>
              <a:xfrm>
                <a:off x="4342680" y="3135600"/>
                <a:ext cx="811080" cy="76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9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317120" y="3125880"/>
                <a:ext cx="862920" cy="77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2971800" y="3916080"/>
              <a:ext cx="1344600" cy="779400"/>
              <a:chOff x="2971800" y="3916080"/>
              <a:chExt cx="1344600" cy="779400"/>
            </a:xfrm>
          </p:grpSpPr>
          <p:sp>
            <p:nvSpPr>
              <p:cNvPr id="270" name=""/>
              <p:cNvSpPr/>
              <p:nvPr/>
            </p:nvSpPr>
            <p:spPr>
              <a:xfrm>
                <a:off x="2996640" y="3925440"/>
                <a:ext cx="1294560" cy="77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卞晓雯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71800" y="3916080"/>
                <a:ext cx="1344600" cy="77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4317120" y="3916080"/>
              <a:ext cx="862920" cy="779400"/>
              <a:chOff x="4317120" y="3916080"/>
              <a:chExt cx="862920" cy="779400"/>
            </a:xfrm>
          </p:grpSpPr>
          <p:sp>
            <p:nvSpPr>
              <p:cNvPr id="273" name=""/>
              <p:cNvSpPr/>
              <p:nvPr/>
            </p:nvSpPr>
            <p:spPr>
              <a:xfrm>
                <a:off x="4342680" y="3925440"/>
                <a:ext cx="811080" cy="77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9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317120" y="3916080"/>
                <a:ext cx="862920" cy="77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971800" y="4706280"/>
              <a:ext cx="1344600" cy="779400"/>
              <a:chOff x="2971800" y="4706280"/>
              <a:chExt cx="1344600" cy="779400"/>
            </a:xfrm>
          </p:grpSpPr>
          <p:sp>
            <p:nvSpPr>
              <p:cNvPr id="276" name=""/>
              <p:cNvSpPr/>
              <p:nvPr/>
            </p:nvSpPr>
            <p:spPr>
              <a:xfrm>
                <a:off x="2996640" y="4715640"/>
                <a:ext cx="1294560" cy="77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平均分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971800" y="4706280"/>
                <a:ext cx="1344600" cy="77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317120" y="4706280"/>
              <a:ext cx="862920" cy="779400"/>
              <a:chOff x="4317120" y="4706280"/>
              <a:chExt cx="862920" cy="779400"/>
            </a:xfrm>
          </p:grpSpPr>
          <p:sp>
            <p:nvSpPr>
              <p:cNvPr id="279" name=""/>
              <p:cNvSpPr/>
              <p:nvPr/>
            </p:nvSpPr>
            <p:spPr>
              <a:xfrm>
                <a:off x="4342680" y="4715640"/>
                <a:ext cx="811080" cy="77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7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317120" y="4706280"/>
                <a:ext cx="862920" cy="77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0" y="63198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10080" y="914400"/>
            <a:ext cx="2284200" cy="4190040"/>
            <a:chOff x="5410080" y="914400"/>
            <a:chExt cx="2284200" cy="4190040"/>
          </a:xfrm>
        </p:grpSpPr>
        <p:grpSp>
          <p:nvGrpSpPr>
            <p:cNvPr id="283" name=""/>
            <p:cNvGrpSpPr/>
            <p:nvPr/>
          </p:nvGrpSpPr>
          <p:grpSpPr>
            <a:xfrm>
              <a:off x="5410080" y="914400"/>
              <a:ext cx="1321200" cy="901440"/>
              <a:chOff x="5410080" y="914400"/>
              <a:chExt cx="1321200" cy="901440"/>
            </a:xfrm>
          </p:grpSpPr>
          <p:sp>
            <p:nvSpPr>
              <p:cNvPr id="284" name=""/>
              <p:cNvSpPr/>
              <p:nvPr/>
            </p:nvSpPr>
            <p:spPr>
              <a:xfrm>
                <a:off x="5436000" y="925920"/>
                <a:ext cx="1267920" cy="88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姓名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410080" y="914400"/>
                <a:ext cx="1321200" cy="901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6732000" y="914400"/>
              <a:ext cx="962280" cy="901440"/>
              <a:chOff x="6732000" y="914400"/>
              <a:chExt cx="962280" cy="901440"/>
            </a:xfrm>
          </p:grpSpPr>
          <p:sp>
            <p:nvSpPr>
              <p:cNvPr id="287" name=""/>
              <p:cNvSpPr/>
              <p:nvPr/>
            </p:nvSpPr>
            <p:spPr>
              <a:xfrm>
                <a:off x="6757920" y="925920"/>
                <a:ext cx="909000" cy="88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生物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732000" y="914400"/>
                <a:ext cx="962280" cy="901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5410080" y="1828080"/>
              <a:ext cx="1321200" cy="718920"/>
              <a:chOff x="5410080" y="1828080"/>
              <a:chExt cx="1321200" cy="718920"/>
            </a:xfrm>
          </p:grpSpPr>
          <p:sp>
            <p:nvSpPr>
              <p:cNvPr id="290" name=""/>
              <p:cNvSpPr/>
              <p:nvPr/>
            </p:nvSpPr>
            <p:spPr>
              <a:xfrm>
                <a:off x="5436000" y="1839240"/>
                <a:ext cx="126792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王阳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410080" y="1828080"/>
                <a:ext cx="1321200" cy="718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6732000" y="1828080"/>
              <a:ext cx="962280" cy="718920"/>
              <a:chOff x="6732000" y="1828080"/>
              <a:chExt cx="962280" cy="718920"/>
            </a:xfrm>
          </p:grpSpPr>
          <p:sp>
            <p:nvSpPr>
              <p:cNvPr id="293" name=""/>
              <p:cNvSpPr/>
              <p:nvPr/>
            </p:nvSpPr>
            <p:spPr>
              <a:xfrm>
                <a:off x="6757920" y="1839240"/>
                <a:ext cx="90900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9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32000" y="1828080"/>
                <a:ext cx="962280" cy="718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410080" y="2558520"/>
              <a:ext cx="1321200" cy="901440"/>
              <a:chOff x="5410080" y="2558520"/>
              <a:chExt cx="1321200" cy="901440"/>
            </a:xfrm>
          </p:grpSpPr>
          <p:sp>
            <p:nvSpPr>
              <p:cNvPr id="296" name=""/>
              <p:cNvSpPr/>
              <p:nvPr/>
            </p:nvSpPr>
            <p:spPr>
              <a:xfrm>
                <a:off x="5436000" y="2570040"/>
                <a:ext cx="1267920" cy="88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周伟刚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10080" y="2558520"/>
                <a:ext cx="1321200" cy="901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6732000" y="2558520"/>
              <a:ext cx="962280" cy="901440"/>
              <a:chOff x="6732000" y="2558520"/>
              <a:chExt cx="962280" cy="901440"/>
            </a:xfrm>
          </p:grpSpPr>
          <p:sp>
            <p:nvSpPr>
              <p:cNvPr id="299" name=""/>
              <p:cNvSpPr/>
              <p:nvPr/>
            </p:nvSpPr>
            <p:spPr>
              <a:xfrm>
                <a:off x="6757920" y="2570040"/>
                <a:ext cx="909000" cy="88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9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32000" y="2558520"/>
                <a:ext cx="962280" cy="901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5410080" y="3472560"/>
              <a:ext cx="1321200" cy="718920"/>
              <a:chOff x="5410080" y="3472560"/>
              <a:chExt cx="1321200" cy="718920"/>
            </a:xfrm>
          </p:grpSpPr>
          <p:sp>
            <p:nvSpPr>
              <p:cNvPr id="302" name=""/>
              <p:cNvSpPr/>
              <p:nvPr/>
            </p:nvSpPr>
            <p:spPr>
              <a:xfrm>
                <a:off x="5436000" y="3483720"/>
                <a:ext cx="126792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薛丹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410080" y="3472560"/>
                <a:ext cx="1321200" cy="718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6732000" y="3472560"/>
              <a:ext cx="962280" cy="718920"/>
              <a:chOff x="6732000" y="3472560"/>
              <a:chExt cx="962280" cy="718920"/>
            </a:xfrm>
          </p:grpSpPr>
          <p:sp>
            <p:nvSpPr>
              <p:cNvPr id="305" name=""/>
              <p:cNvSpPr/>
              <p:nvPr/>
            </p:nvSpPr>
            <p:spPr>
              <a:xfrm>
                <a:off x="6757920" y="3483720"/>
                <a:ext cx="90900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9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732000" y="3472560"/>
                <a:ext cx="962280" cy="718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5410080" y="4203000"/>
              <a:ext cx="1321200" cy="901440"/>
              <a:chOff x="5410080" y="4203000"/>
              <a:chExt cx="1321200" cy="901440"/>
            </a:xfrm>
          </p:grpSpPr>
          <p:sp>
            <p:nvSpPr>
              <p:cNvPr id="308" name=""/>
              <p:cNvSpPr/>
              <p:nvPr/>
            </p:nvSpPr>
            <p:spPr>
              <a:xfrm>
                <a:off x="5436000" y="4214520"/>
                <a:ext cx="1267920" cy="88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平均分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10080" y="4203000"/>
                <a:ext cx="1321200" cy="901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732000" y="4203000"/>
              <a:ext cx="962280" cy="901440"/>
              <a:chOff x="6732000" y="4203000"/>
              <a:chExt cx="962280" cy="901440"/>
            </a:xfrm>
          </p:grpSpPr>
          <p:sp>
            <p:nvSpPr>
              <p:cNvPr id="311" name=""/>
              <p:cNvSpPr/>
              <p:nvPr/>
            </p:nvSpPr>
            <p:spPr>
              <a:xfrm>
                <a:off x="6757920" y="4214520"/>
                <a:ext cx="909000" cy="88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75.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732000" y="4203000"/>
                <a:ext cx="962280" cy="901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762120" y="990720"/>
            <a:ext cx="2131920" cy="4189680"/>
            <a:chOff x="762120" y="990720"/>
            <a:chExt cx="2131920" cy="4189680"/>
          </a:xfrm>
        </p:grpSpPr>
        <p:grpSp>
          <p:nvGrpSpPr>
            <p:cNvPr id="314" name=""/>
            <p:cNvGrpSpPr/>
            <p:nvPr/>
          </p:nvGrpSpPr>
          <p:grpSpPr>
            <a:xfrm>
              <a:off x="762120" y="990720"/>
              <a:ext cx="1233000" cy="863640"/>
              <a:chOff x="762120" y="990720"/>
              <a:chExt cx="1233000" cy="863640"/>
            </a:xfrm>
          </p:grpSpPr>
          <p:sp>
            <p:nvSpPr>
              <p:cNvPr id="315" name=""/>
              <p:cNvSpPr/>
              <p:nvPr/>
            </p:nvSpPr>
            <p:spPr>
              <a:xfrm>
                <a:off x="786240" y="1001160"/>
                <a:ext cx="118332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姓名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62120" y="990720"/>
                <a:ext cx="1233000" cy="86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1995840" y="990720"/>
              <a:ext cx="898200" cy="863640"/>
              <a:chOff x="1995840" y="990720"/>
              <a:chExt cx="898200" cy="863640"/>
            </a:xfrm>
          </p:grpSpPr>
          <p:sp>
            <p:nvSpPr>
              <p:cNvPr id="318" name=""/>
              <p:cNvSpPr/>
              <p:nvPr/>
            </p:nvSpPr>
            <p:spPr>
              <a:xfrm>
                <a:off x="2019960" y="1001160"/>
                <a:ext cx="84852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政治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95840" y="990720"/>
                <a:ext cx="898200" cy="86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1865880"/>
              <a:ext cx="1233000" cy="863640"/>
              <a:chOff x="762120" y="1865880"/>
              <a:chExt cx="1233000" cy="863640"/>
            </a:xfrm>
          </p:grpSpPr>
          <p:sp>
            <p:nvSpPr>
              <p:cNvPr id="321" name=""/>
              <p:cNvSpPr/>
              <p:nvPr/>
            </p:nvSpPr>
            <p:spPr>
              <a:xfrm>
                <a:off x="786240" y="1876320"/>
                <a:ext cx="118332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周伟刚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1865880"/>
                <a:ext cx="1233000" cy="86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1995840" y="1865880"/>
              <a:ext cx="898200" cy="863640"/>
              <a:chOff x="1995840" y="1865880"/>
              <a:chExt cx="898200" cy="863640"/>
            </a:xfrm>
          </p:grpSpPr>
          <p:sp>
            <p:nvSpPr>
              <p:cNvPr id="324" name=""/>
              <p:cNvSpPr/>
              <p:nvPr/>
            </p:nvSpPr>
            <p:spPr>
              <a:xfrm>
                <a:off x="2019960" y="1876320"/>
                <a:ext cx="84852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9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95840" y="1865880"/>
                <a:ext cx="898200" cy="86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762120" y="2741040"/>
              <a:ext cx="1233000" cy="688680"/>
              <a:chOff x="762120" y="2741040"/>
              <a:chExt cx="1233000" cy="688680"/>
            </a:xfrm>
          </p:grpSpPr>
          <p:sp>
            <p:nvSpPr>
              <p:cNvPr id="327" name=""/>
              <p:cNvSpPr/>
              <p:nvPr/>
            </p:nvSpPr>
            <p:spPr>
              <a:xfrm>
                <a:off x="786240" y="2751840"/>
                <a:ext cx="1183320" cy="67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陈彬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741040"/>
                <a:ext cx="1233000" cy="688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1995840" y="2741040"/>
              <a:ext cx="898200" cy="688680"/>
              <a:chOff x="1995840" y="2741040"/>
              <a:chExt cx="898200" cy="688680"/>
            </a:xfrm>
          </p:grpSpPr>
          <p:sp>
            <p:nvSpPr>
              <p:cNvPr id="330" name=""/>
              <p:cNvSpPr/>
              <p:nvPr/>
            </p:nvSpPr>
            <p:spPr>
              <a:xfrm>
                <a:off x="2019960" y="2751840"/>
                <a:ext cx="848520" cy="67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8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995840" y="2741040"/>
                <a:ext cx="898200" cy="688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762120" y="3441600"/>
              <a:ext cx="1233000" cy="863640"/>
              <a:chOff x="762120" y="3441600"/>
              <a:chExt cx="1233000" cy="863640"/>
            </a:xfrm>
          </p:grpSpPr>
          <p:sp>
            <p:nvSpPr>
              <p:cNvPr id="333" name=""/>
              <p:cNvSpPr/>
              <p:nvPr/>
            </p:nvSpPr>
            <p:spPr>
              <a:xfrm>
                <a:off x="786240" y="3452040"/>
                <a:ext cx="118332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陆媛媛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62120" y="3441600"/>
                <a:ext cx="1233000" cy="86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995840" y="3441600"/>
              <a:ext cx="898200" cy="863640"/>
              <a:chOff x="1995840" y="3441600"/>
              <a:chExt cx="898200" cy="863640"/>
            </a:xfrm>
          </p:grpSpPr>
          <p:sp>
            <p:nvSpPr>
              <p:cNvPr id="336" name=""/>
              <p:cNvSpPr/>
              <p:nvPr/>
            </p:nvSpPr>
            <p:spPr>
              <a:xfrm>
                <a:off x="2019960" y="3452040"/>
                <a:ext cx="84852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8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95840" y="3441600"/>
                <a:ext cx="898200" cy="86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762120" y="4316400"/>
              <a:ext cx="1233000" cy="864000"/>
              <a:chOff x="762120" y="4316400"/>
              <a:chExt cx="1233000" cy="864000"/>
            </a:xfrm>
          </p:grpSpPr>
          <p:sp>
            <p:nvSpPr>
              <p:cNvPr id="339" name=""/>
              <p:cNvSpPr/>
              <p:nvPr/>
            </p:nvSpPr>
            <p:spPr>
              <a:xfrm>
                <a:off x="786240" y="4327560"/>
                <a:ext cx="118332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平均分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62120" y="4316400"/>
                <a:ext cx="1233000" cy="864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1995840" y="4316400"/>
              <a:ext cx="898200" cy="864000"/>
              <a:chOff x="1995840" y="4316400"/>
              <a:chExt cx="898200" cy="864000"/>
            </a:xfrm>
          </p:grpSpPr>
          <p:sp>
            <p:nvSpPr>
              <p:cNvPr id="342" name=""/>
              <p:cNvSpPr/>
              <p:nvPr/>
            </p:nvSpPr>
            <p:spPr>
              <a:xfrm>
                <a:off x="2019960" y="4327560"/>
                <a:ext cx="84852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73.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95840" y="4316400"/>
                <a:ext cx="898200" cy="864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3200400" y="990720"/>
            <a:ext cx="2132280" cy="4190040"/>
            <a:chOff x="3200400" y="990720"/>
            <a:chExt cx="2132280" cy="4190040"/>
          </a:xfrm>
        </p:grpSpPr>
        <p:grpSp>
          <p:nvGrpSpPr>
            <p:cNvPr id="345" name=""/>
            <p:cNvGrpSpPr/>
            <p:nvPr/>
          </p:nvGrpSpPr>
          <p:grpSpPr>
            <a:xfrm>
              <a:off x="3200400" y="990720"/>
              <a:ext cx="1231920" cy="901440"/>
              <a:chOff x="3200400" y="990720"/>
              <a:chExt cx="1231920" cy="901440"/>
            </a:xfrm>
          </p:grpSpPr>
          <p:sp>
            <p:nvSpPr>
              <p:cNvPr id="346" name=""/>
              <p:cNvSpPr/>
              <p:nvPr/>
            </p:nvSpPr>
            <p:spPr>
              <a:xfrm>
                <a:off x="3223800" y="1001880"/>
                <a:ext cx="1184760" cy="89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姓名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00400" y="990720"/>
                <a:ext cx="1231920" cy="901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4433040" y="990720"/>
              <a:ext cx="899640" cy="901440"/>
              <a:chOff x="4433040" y="990720"/>
              <a:chExt cx="899640" cy="901440"/>
            </a:xfrm>
          </p:grpSpPr>
          <p:sp>
            <p:nvSpPr>
              <p:cNvPr id="349" name=""/>
              <p:cNvSpPr/>
              <p:nvPr/>
            </p:nvSpPr>
            <p:spPr>
              <a:xfrm>
                <a:off x="4457520" y="1001880"/>
                <a:ext cx="851400" cy="89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历史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433040" y="990720"/>
                <a:ext cx="899640" cy="901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3200400" y="1903680"/>
              <a:ext cx="1231920" cy="718920"/>
              <a:chOff x="3200400" y="1903680"/>
              <a:chExt cx="1231920" cy="718920"/>
            </a:xfrm>
          </p:grpSpPr>
          <p:sp>
            <p:nvSpPr>
              <p:cNvPr id="352" name=""/>
              <p:cNvSpPr/>
              <p:nvPr/>
            </p:nvSpPr>
            <p:spPr>
              <a:xfrm>
                <a:off x="3223800" y="1915200"/>
                <a:ext cx="1184760" cy="70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曹庭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200400" y="1903680"/>
                <a:ext cx="1231920" cy="718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4433040" y="1903680"/>
              <a:ext cx="899640" cy="718920"/>
              <a:chOff x="4433040" y="1903680"/>
              <a:chExt cx="899640" cy="718920"/>
            </a:xfrm>
          </p:grpSpPr>
          <p:sp>
            <p:nvSpPr>
              <p:cNvPr id="355" name=""/>
              <p:cNvSpPr/>
              <p:nvPr/>
            </p:nvSpPr>
            <p:spPr>
              <a:xfrm>
                <a:off x="4457520" y="1915200"/>
                <a:ext cx="851400" cy="70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9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33040" y="1903680"/>
                <a:ext cx="899640" cy="718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200400" y="2634840"/>
              <a:ext cx="1231920" cy="718560"/>
              <a:chOff x="3200400" y="2634840"/>
              <a:chExt cx="1231920" cy="718560"/>
            </a:xfrm>
          </p:grpSpPr>
          <p:sp>
            <p:nvSpPr>
              <p:cNvPr id="358" name=""/>
              <p:cNvSpPr/>
              <p:nvPr/>
            </p:nvSpPr>
            <p:spPr>
              <a:xfrm>
                <a:off x="3223800" y="2646000"/>
                <a:ext cx="1184760" cy="70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王阳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00400" y="2634840"/>
                <a:ext cx="1231920" cy="718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4433040" y="2634840"/>
              <a:ext cx="899640" cy="718560"/>
              <a:chOff x="4433040" y="2634840"/>
              <a:chExt cx="899640" cy="718560"/>
            </a:xfrm>
          </p:grpSpPr>
          <p:sp>
            <p:nvSpPr>
              <p:cNvPr id="361" name=""/>
              <p:cNvSpPr/>
              <p:nvPr/>
            </p:nvSpPr>
            <p:spPr>
              <a:xfrm>
                <a:off x="4457520" y="2646000"/>
                <a:ext cx="851400" cy="70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87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433040" y="2634840"/>
                <a:ext cx="899640" cy="718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3200400" y="3365640"/>
              <a:ext cx="1231920" cy="901440"/>
              <a:chOff x="3200400" y="3365640"/>
              <a:chExt cx="1231920" cy="901440"/>
            </a:xfrm>
          </p:grpSpPr>
          <p:sp>
            <p:nvSpPr>
              <p:cNvPr id="364" name=""/>
              <p:cNvSpPr/>
              <p:nvPr/>
            </p:nvSpPr>
            <p:spPr>
              <a:xfrm>
                <a:off x="3223800" y="3376800"/>
                <a:ext cx="1184760" cy="89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高恬恬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200400" y="3365640"/>
                <a:ext cx="1231920" cy="901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4433040" y="3365640"/>
              <a:ext cx="899640" cy="901440"/>
              <a:chOff x="4433040" y="3365640"/>
              <a:chExt cx="899640" cy="901440"/>
            </a:xfrm>
          </p:grpSpPr>
          <p:sp>
            <p:nvSpPr>
              <p:cNvPr id="367" name=""/>
              <p:cNvSpPr/>
              <p:nvPr/>
            </p:nvSpPr>
            <p:spPr>
              <a:xfrm>
                <a:off x="4457520" y="3376800"/>
                <a:ext cx="851400" cy="89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8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33040" y="3365640"/>
                <a:ext cx="899640" cy="901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3200400" y="4279320"/>
              <a:ext cx="1231920" cy="901440"/>
              <a:chOff x="3200400" y="4279320"/>
              <a:chExt cx="1231920" cy="901440"/>
            </a:xfrm>
          </p:grpSpPr>
          <p:sp>
            <p:nvSpPr>
              <p:cNvPr id="370" name=""/>
              <p:cNvSpPr/>
              <p:nvPr/>
            </p:nvSpPr>
            <p:spPr>
              <a:xfrm>
                <a:off x="3223800" y="4290480"/>
                <a:ext cx="1184760" cy="89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平均分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200400" y="4279320"/>
                <a:ext cx="1231920" cy="901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4433040" y="4279320"/>
              <a:ext cx="899640" cy="901440"/>
              <a:chOff x="4433040" y="4279320"/>
              <a:chExt cx="899640" cy="901440"/>
            </a:xfrm>
          </p:grpSpPr>
          <p:sp>
            <p:nvSpPr>
              <p:cNvPr id="373" name=""/>
              <p:cNvSpPr/>
              <p:nvPr/>
            </p:nvSpPr>
            <p:spPr>
              <a:xfrm>
                <a:off x="4457520" y="4290480"/>
                <a:ext cx="851400" cy="89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60.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433040" y="4279320"/>
                <a:ext cx="899640" cy="901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5638680" y="1143000"/>
            <a:ext cx="2055600" cy="3800520"/>
            <a:chOff x="5638680" y="1143000"/>
            <a:chExt cx="2055600" cy="3800520"/>
          </a:xfrm>
        </p:grpSpPr>
        <p:grpSp>
          <p:nvGrpSpPr>
            <p:cNvPr id="376" name=""/>
            <p:cNvGrpSpPr/>
            <p:nvPr/>
          </p:nvGrpSpPr>
          <p:grpSpPr>
            <a:xfrm>
              <a:off x="5638680" y="1143000"/>
              <a:ext cx="1187640" cy="752400"/>
              <a:chOff x="5638680" y="1143000"/>
              <a:chExt cx="1187640" cy="752400"/>
            </a:xfrm>
          </p:grpSpPr>
          <p:sp>
            <p:nvSpPr>
              <p:cNvPr id="377" name=""/>
              <p:cNvSpPr/>
              <p:nvPr/>
            </p:nvSpPr>
            <p:spPr>
              <a:xfrm>
                <a:off x="5661360" y="1152720"/>
                <a:ext cx="1142280" cy="74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姓名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38680" y="1143000"/>
                <a:ext cx="1187640" cy="75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6827040" y="1143000"/>
              <a:ext cx="867240" cy="752400"/>
              <a:chOff x="6827040" y="1143000"/>
              <a:chExt cx="867240" cy="752400"/>
            </a:xfrm>
          </p:grpSpPr>
          <p:sp>
            <p:nvSpPr>
              <p:cNvPr id="380" name=""/>
              <p:cNvSpPr/>
              <p:nvPr/>
            </p:nvSpPr>
            <p:spPr>
              <a:xfrm>
                <a:off x="6850440" y="1152720"/>
                <a:ext cx="820800" cy="74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地理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827040" y="1143000"/>
                <a:ext cx="867240" cy="75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5638680" y="1905120"/>
              <a:ext cx="1187640" cy="752400"/>
              <a:chOff x="5638680" y="1905120"/>
              <a:chExt cx="1187640" cy="752400"/>
            </a:xfrm>
          </p:grpSpPr>
          <p:sp>
            <p:nvSpPr>
              <p:cNvPr id="383" name=""/>
              <p:cNvSpPr/>
              <p:nvPr/>
            </p:nvSpPr>
            <p:spPr>
              <a:xfrm>
                <a:off x="5661360" y="1914480"/>
                <a:ext cx="1142280" cy="74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江旻明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638680" y="1905120"/>
                <a:ext cx="1187640" cy="75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827040" y="1905120"/>
              <a:ext cx="867240" cy="752400"/>
              <a:chOff x="6827040" y="1905120"/>
              <a:chExt cx="867240" cy="752400"/>
            </a:xfrm>
          </p:grpSpPr>
          <p:sp>
            <p:nvSpPr>
              <p:cNvPr id="386" name=""/>
              <p:cNvSpPr/>
              <p:nvPr/>
            </p:nvSpPr>
            <p:spPr>
              <a:xfrm>
                <a:off x="6850440" y="1914480"/>
                <a:ext cx="820800" cy="74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9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827040" y="1905120"/>
                <a:ext cx="867240" cy="75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5638680" y="2666880"/>
              <a:ext cx="1187640" cy="752760"/>
              <a:chOff x="5638680" y="2666880"/>
              <a:chExt cx="1187640" cy="752760"/>
            </a:xfrm>
          </p:grpSpPr>
          <p:sp>
            <p:nvSpPr>
              <p:cNvPr id="389" name=""/>
              <p:cNvSpPr/>
              <p:nvPr/>
            </p:nvSpPr>
            <p:spPr>
              <a:xfrm>
                <a:off x="5661360" y="2676600"/>
                <a:ext cx="1142280" cy="74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陆樱少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638680" y="2666880"/>
                <a:ext cx="1187640" cy="752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827040" y="2666880"/>
              <a:ext cx="867240" cy="752760"/>
              <a:chOff x="6827040" y="2666880"/>
              <a:chExt cx="867240" cy="752760"/>
            </a:xfrm>
          </p:grpSpPr>
          <p:sp>
            <p:nvSpPr>
              <p:cNvPr id="392" name=""/>
              <p:cNvSpPr/>
              <p:nvPr/>
            </p:nvSpPr>
            <p:spPr>
              <a:xfrm>
                <a:off x="6850440" y="2676600"/>
                <a:ext cx="820800" cy="74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9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27040" y="2666880"/>
                <a:ext cx="867240" cy="752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5638680" y="3429000"/>
              <a:ext cx="1187640" cy="752400"/>
              <a:chOff x="5638680" y="3429000"/>
              <a:chExt cx="1187640" cy="752400"/>
            </a:xfrm>
          </p:grpSpPr>
          <p:sp>
            <p:nvSpPr>
              <p:cNvPr id="395" name=""/>
              <p:cNvSpPr/>
              <p:nvPr/>
            </p:nvSpPr>
            <p:spPr>
              <a:xfrm>
                <a:off x="5661360" y="3438720"/>
                <a:ext cx="1142280" cy="74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周伟刚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638680" y="3429000"/>
                <a:ext cx="1187640" cy="75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6827040" y="3429000"/>
              <a:ext cx="867240" cy="752400"/>
              <a:chOff x="6827040" y="3429000"/>
              <a:chExt cx="867240" cy="752400"/>
            </a:xfrm>
          </p:grpSpPr>
          <p:sp>
            <p:nvSpPr>
              <p:cNvPr id="398" name=""/>
              <p:cNvSpPr/>
              <p:nvPr/>
            </p:nvSpPr>
            <p:spPr>
              <a:xfrm>
                <a:off x="6850440" y="3438720"/>
                <a:ext cx="820800" cy="74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88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827040" y="3429000"/>
                <a:ext cx="867240" cy="75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5638680" y="4191120"/>
              <a:ext cx="1187640" cy="752400"/>
              <a:chOff x="5638680" y="4191120"/>
              <a:chExt cx="1187640" cy="752400"/>
            </a:xfrm>
          </p:grpSpPr>
          <p:sp>
            <p:nvSpPr>
              <p:cNvPr id="401" name=""/>
              <p:cNvSpPr/>
              <p:nvPr/>
            </p:nvSpPr>
            <p:spPr>
              <a:xfrm>
                <a:off x="5661360" y="4200480"/>
                <a:ext cx="1142280" cy="74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平均分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638680" y="4191120"/>
                <a:ext cx="1187640" cy="75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6827040" y="4191120"/>
              <a:ext cx="867240" cy="752400"/>
              <a:chOff x="6827040" y="4191120"/>
              <a:chExt cx="867240" cy="752400"/>
            </a:xfrm>
          </p:grpSpPr>
          <p:sp>
            <p:nvSpPr>
              <p:cNvPr id="404" name=""/>
              <p:cNvSpPr/>
              <p:nvPr/>
            </p:nvSpPr>
            <p:spPr>
              <a:xfrm>
                <a:off x="6850440" y="4200480"/>
                <a:ext cx="820800" cy="74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70.7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827040" y="4191120"/>
                <a:ext cx="867240" cy="75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380880" y="914400"/>
          <a:ext cx="376416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37641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4495680" y="914400"/>
          <a:ext cx="3724560" cy="4648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914400"/>
                    <a:ext cx="37245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0" name=""/>
          <p:cNvGrpSpPr/>
          <p:nvPr/>
        </p:nvGrpSpPr>
        <p:grpSpPr>
          <a:xfrm>
            <a:off x="4116240" y="1336680"/>
            <a:ext cx="485640" cy="875520"/>
            <a:chOff x="4116240" y="1336680"/>
            <a:chExt cx="485640" cy="875520"/>
          </a:xfrm>
        </p:grpSpPr>
        <p:sp>
          <p:nvSpPr>
            <p:cNvPr id="411" name=""/>
            <p:cNvSpPr/>
            <p:nvPr/>
          </p:nvSpPr>
          <p:spPr>
            <a:xfrm>
              <a:off x="4176720" y="133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16240" y="1752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53:07Z</dcterms:modified>
  <cp:revision>22</cp:revision>
  <dc:subject>主题班会课件(分28大类): http://shop62905894.taobao.com</dc:subject>
  <dc:title>主题班会课件(分28大类): http://shop62905894.taobao.com</dc:title>
</cp:coreProperties>
</file>